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7616-FA63-4FBF-9844-343D004A1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9462-7EFA-4168-9614-ED02936CC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C7D2EB-1865-4057-A34C-367AF23B1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2FD719-3BA3-4894-A7F2-14CAF3BA8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AE2187-1421-4DC9-9CE5-CC89ABEF3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6CC3BF-763A-4CC9-87AF-99DEEBFD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CDD723-AFAF-4F20-B3C8-1D23BCA9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0FA21C-7905-4BEC-8AAA-01D3B220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18288E-BDAC-4527-813A-5ADC1EEF9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F670C8-3410-43ED-A961-E14D27591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8CBCCA-62A3-4E60-BA0B-8457AFC98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6068A3-B811-48D6-8BC3-BADA4CB0A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B94C-3EDA-44B5-9191-FD30F7645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C83D5A-6AB5-4E9C-AE52-CF06333B2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7CAFFE-D5E3-4BD9-A01C-1358D6EF3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CAD02E-A7E1-48EB-8560-BED2C7C51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D314F2-3F95-4979-9B4A-B60570631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E452E1-FB2F-4703-A0F2-F52042111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2B71EB-F387-480D-854A-3240D2A5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10043B-F3F3-48B8-8DF6-66105F0C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E8F5B1-F53D-4E8B-AD64-A50E4E85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393CA0-512E-40F1-98BF-80D5391D8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EDFF5F-DB60-484E-B3C7-8AA6735FA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9C87-FD26-4378-812F-16B680229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1528F3-60F5-4D22-90DF-D1B99EFAC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0C8F92-DB56-4515-846E-CE92EBDF7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5CE96A-6A1C-4AF5-B2E6-CD9543508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2AD4A7-0C5E-4516-8DD3-EA8FBB177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E402CF-B337-4FAF-9537-6FBE4D25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1D48A4-7CD2-4EDC-92DC-D0E8CADE7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2662A3-72F1-49FC-BCF0-B2A3AC654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C29E7B-47F8-47DE-8312-E37EE141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2F8349-A3FE-4608-8E7D-D9205D18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417F62-8979-4AE6-8B7E-BC5AE6D1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8A6A5-5767-4EEE-BC03-66672B39C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206708-113F-426D-AE20-ABBF9B8D4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02E7E6-4ADF-43F2-B09F-F7EA078E5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975BE3-0DBC-4A74-A3FB-7FB54F406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B7D67F-595B-4A3E-9755-85FB83C84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B15D0C-DC01-4F27-BC24-D195CE31B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19EB7D-0925-4800-966E-8FC8F3DF0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89525B-626D-4334-81ED-9FB1238D3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4BFB36-A4E8-461E-8428-6136F0FEB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653853-13D7-4CDB-97A4-101D8DF38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253A7B-C5EE-488E-AEB9-AB33CD37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9DC43-BDE3-4679-9F02-A1DC9F92E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6B7B0E-CA35-44F0-919A-A91310A5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74C1B6-CB2F-4F07-AEF1-86D87377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5AA409-E8F0-4ABB-AFB5-E29960A0D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5422C8-1E65-49A0-9B10-C962012FB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3C7982-4D8B-4E75-B5B3-7226824B1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191143-1362-4F96-9E62-1CFE94CB2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CE2B79-E00C-4559-A5D8-4D36F28E5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55CAB9-374E-4819-9EDF-CBE13FA82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9E2314-7C62-4527-BC76-CEEB0EA24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DA01F6-7788-46CB-8C35-6BBCB8805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D569F-677B-43F2-93A4-5D3E612EE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508628-2A8D-498C-BBB0-69AE769B6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062798-F11F-4BE7-B582-79477D1F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AFC729-2AF5-491C-9424-39AE9C86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85E24C-CF2F-4B39-BF8C-46C569B5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738948-EA8D-4979-BEC1-BF4109BE8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779B36-6E7D-4973-9F44-F7DD12C1B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66921D-FB98-4F49-9CC2-D855755DE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C346EB-BB93-4D3C-85D3-B43906407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49F43F-3591-4649-9BC0-7CFFD2091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37BCAA-2FA9-4EDE-BE9B-20412B6A8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ACBF4-AEFD-48FF-AA0C-9EC7084B8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39CAD5-CED4-4AC5-953C-60C7CFE83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1D946F-C16E-40E0-8AE5-4BA2DF117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2C1895-DA5E-4A6C-AC0E-DE131EB26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3E0A72-3C18-44F0-8948-93EFFAF0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79FED3-BF48-4FF2-A2C9-95CC8AC6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38B70C-618C-4D8B-8B26-07DC2BD4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2C0D7A-1C9A-4901-83C5-9C7118EF5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A3F369-9096-4DB1-AE78-908463F0D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4E784E-035C-4FFA-BF09-341B69D01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31F7DC-465A-49C0-9A50-F62924B39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2ACE8-E458-4116-8AF2-92D0B8480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C85A03-B838-4327-BE05-F1AA7AA31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936C5C-8318-42C3-A278-8A3A31DE4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D94DBA-A15C-4B00-9DA7-9A99A5FBE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3B9FB9-2713-4A2E-AFEE-622944623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83D5E7-7A56-4C56-A341-F00E7A73F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E05B87-316B-494C-A721-F1A15DE8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117A2D-5EDC-4C01-870C-4DF792D9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6A7205-69C5-42F2-B1FD-A2CA95C7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40C0C0-554E-4EFE-A693-F5B180916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3D1062-2007-4CA2-82DE-936B12339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7992B-B70D-49FF-849B-D602F058E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0B58A0-EC23-4CE8-B94F-906A9066C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4277BF-4685-4AF2-83E1-6B8B05FC8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46CB64-75BD-44CC-959A-9ABBE5454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AC06B8-C5A4-443D-ADA0-23F69830C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0C1231-4109-4FB8-B19D-087CC49EC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F10969-62DF-4998-B9A6-2B24204D1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D8A262-2432-40E2-946A-AC10938DB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71673A-7303-4B1C-9DB4-1E8FA300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E2D807-F222-42FE-8F1C-F6F35C54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322DA5-1881-4E69-9053-DBEB19EE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DDC8C-9E76-4B4A-93BC-DEB848FC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1DC5A7-C1CA-44DB-8220-6558090BF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3F8CF3-EFA2-459F-A729-FDB8B4133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D4722E-27D8-469E-A215-FF9DEF0BC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87C17E-C29A-4CC2-A8BD-5F5A7B93D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0FA232-8537-4BD0-97D0-F45C5CE8E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E114B2-F5D8-475E-8056-4DB594CE3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49FC89-CCDB-46D2-A974-82DEF3032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82D2D4-5CC8-4C62-8BB7-5E32456B9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E9CE54-B8AD-415C-851E-C19FF6195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31A553-630F-4A34-A38E-339634A9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DEE6-F5FC-4647-A2D2-8165983CE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A7FA6-AC31-4FB9-8307-AF72251E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3151A7-5F51-467D-8D08-1A5F7669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F52EF6-BF36-4876-9AFC-E4ECA5B5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1B4EF1-3ECE-4D04-A88F-6A0D268DE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42F097-EC1C-41F2-BFBD-5780B5DD3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72E2B4-DA5C-4B4B-BF5A-A450EA53E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947775-3B54-4C97-8128-580C288F2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198462-3C57-4C98-901B-A11EAEE87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156CF0-6E56-4829-9B7D-46610D04F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DC0DEB-2BAF-48E2-A4C2-4615F9167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61E93C-DB24-43DB-8BC3-DB12952FB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F1269-46B2-4488-95D1-9CB23108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94B237-8DC1-4BFE-9A91-4310786FA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E81D2D-3C28-4248-8CE9-F9ED72B0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01C1D4-C588-424C-B41A-7185D02E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602210-E1B4-4FE3-B99F-64037412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72845F-4533-4820-8EE5-BFBC9542D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5ED566-9D5A-4ADC-80A6-C022DB73E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D056FE-820C-4A93-A0F6-B3603C3DC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DA17B5-5D7A-47D6-A06C-BBE1EB811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244733-EE9D-4816-8F80-B8A194419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B12425-13DF-42E5-805D-4B9184C82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F7ADF-D0BD-42C0-87A8-F303B87F9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16EDB3-26CC-4D4F-BB0B-CA055BB67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3BEBEC-C3E7-433D-8AD1-124C1BD51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C7103B-B7C4-441A-962C-A3B041FCD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719155-3D2C-471C-B73E-366EFB17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3A515E-4511-4E75-83AC-67A54784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026BE1-5753-43ED-88A7-7C6F81C2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243302-73FE-4122-B89D-7AA1D6F5B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75E3D6-DE17-4D83-B9B7-5B0C21E5B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EA864E-DA96-4C91-A55E-180303FEA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3F8F8C-B261-4097-839F-890152F68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BB2AD-DB6F-4175-BA61-EBBFBA591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020CC5-D5F1-46C8-9E24-6A7ECE663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4AD396-D461-4E82-96F4-EE2C0EF03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64C990-92A1-4D3B-BAFB-CC37206A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1839CE-64C6-4DF8-B303-82057EF18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0F4508-B198-4844-8128-821FA355E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5DF8F1-1FB8-4207-BD12-FC70EA39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B8A6D3-71C0-48C5-86A2-801241DE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889BBF-E358-4B17-BC95-497573E9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D887D5-9875-49AE-A1C4-81861A917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56EDB0-216A-477F-BD19-05ABDB9D5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33CBE-E316-4D37-9092-9391E90B9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CFE7F5-6450-4E6C-A113-FDB06B6E0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9A72CF-F1D7-412D-AFD3-40B10A600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75A492-EE95-40AD-AABF-281C225C5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D0C727-6848-4755-BD1C-4BFFD806C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126264-574D-409D-9682-5C2526589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733AEC-38B6-469B-B1FD-5831B38BE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DB3A58-B3F6-4013-A53A-B32AA1D5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0EE54F-8BE3-49FE-AB81-7EABA73B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2AB689-124E-4C99-B3DB-D39F124F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AD064C-3D9C-479D-A730-E8764BCE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B12E3-9AA0-49A6-A299-7C1C048A8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D0044B-07D8-485D-99C9-242F8642A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30AF65-A443-48C9-8A7C-6008EBE46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FC57BC-4A1C-4FB8-A8AA-6E5CB1171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BF4BC-D619-4FBF-B13A-44E6D16FF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00EB7-58AB-4476-B2C2-60CFA9816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4C8A2-CF9C-416B-ACA5-A62950565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472E7-4294-485D-98E2-B47859408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03AB-AD99-4416-AF6D-A323EB2F0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CB694-EF71-473F-81C2-0C182DBC9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58115-5860-47BE-8DEB-070DFB0D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F8D28-37B0-41C3-A42C-F4D83C22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7AEDB-7D53-4BB1-8837-C6F24063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B08E2-E828-4ACC-8A26-DDCBCD752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A6AE8-FB36-4339-B025-156D965ED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B0B07-2C18-461B-8BEF-DA8C1FE8F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41B68-17F1-4A63-B243-939933D0E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6DB8B-EE3F-45CB-9589-543DD740D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540D8-C597-4C73-8EF8-D157EF796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6732-76E1-46CE-B409-CC33729DA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10303-9B48-4540-80F0-B1D3C1BF9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28FD1-2C72-4B56-8BF5-0A981BA52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EA1A4-C6DD-47C8-96D5-05A1C9F34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68077-C98E-4CB7-8DE8-25AAA629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71852-28F2-4B7B-96B5-1E8D4CE3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4EFE3-B77E-428E-B9C0-A579F051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7ED0F-5333-48C7-A347-5CC328B6D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65FAF-FBBD-4793-B278-E98B5CF0B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C05AD-A654-414C-BD6A-81BE895DA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8F8FF-C671-4360-B6AF-14B1FE9B4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1F55-8CCC-4BA5-B603-19E155AC1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D11EA-2D78-420D-A29D-F2A8EADC2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89175-4F6F-4C4E-98E4-491FC7EC6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B2660-41B2-484B-8533-3587413DC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C1A91-258D-4539-BCF6-7EA9D4AF1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B2C57-8D2B-4146-B79A-DC58A6BCF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C3518-86CE-49E4-98C0-26EC31FA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A162C-0324-4D22-B04E-97713B24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ED851-F5BA-41F6-90F5-15F9B565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DB726-C7ED-4E9F-8628-7879D72B2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B5E9E-ADAA-421F-B7ED-FE3B37142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F00D-BD3D-43B4-B7F9-BBE113EAB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F9F80-88DE-459F-BEFD-BBBBC3887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0CD01-2079-4059-A73F-8C16FC213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CB931-40CC-490A-937D-DA5655742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1338A-7B7D-4188-B71E-4DC8FDD4A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B1449-A99B-4F72-B789-B8356A916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880EA-589E-4AFC-9580-C3D112543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2E690-4F64-45FC-A020-1B5B07196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70485D-2B18-4505-B62F-B0EAEC43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753CE-C4DA-45EF-86C3-01ED0D0E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952BB-0060-4912-AA22-873FD448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7671-A0D8-4C82-AAA7-63DBF60F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6EB73-FE2D-49B3-9B8D-D21B592F2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2243A-0E06-4AAD-8DF0-EE0668702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4F526-51A2-4BBB-BA7B-4808CD116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B1022-1032-4E58-B211-A842E4607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181AEA-0A2E-4B89-A00D-5EF19566F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9BCA0-0899-4A2C-A069-56C7BB1F7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42D0D-F23D-434E-90F3-06336915C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B04CD-638C-4A29-BBA6-C2610A4DF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307A4B-A7B2-4CCC-A7DA-C0E37CEC0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E6638-0226-488E-A2EC-37214D4C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D777-6874-49A8-8F99-D6DF1F90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928306-342B-4ED9-BDBF-C9B1AD0E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1DA0BB-0F06-40E8-A3D6-161AB2F9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64E998-45CA-48B4-ABCF-C959AB249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A5597-DAAC-46BE-8711-7F1457C07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4BAC2-D384-4870-81EB-5B8742BCF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1E9BE-8AAB-4F8A-98B0-1C7F3A2B3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119598-24E7-48EA-BF75-27B626A82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3BF689-999A-479B-9EAB-FE113100D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C102CC-C266-4E9C-9C48-0DE20981A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D6F324-A83A-4054-AFC8-6231F7864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1A67-1496-436F-8893-E92B11EB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D81D76-7042-4A5C-8BDB-EB67B7116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D1E2CA-71CA-4C92-86ED-4FCFCE31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D8EFD3-4AD7-4EAD-9093-F33634D8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B78A57-49E7-4D0E-831A-5998FB42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0B719A-406A-4EBC-8A34-E04403C12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35C456-AA2A-4305-A6A4-5411F3A68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0FE8F7-E7E8-419F-8A29-C31CD9B08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53A2B5-A96A-4D9C-94E1-4260D4502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CAE352-1765-44A6-BFFF-5CBF0AE71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AD3D14-B217-4AED-9C44-267148D1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AE546-57B3-43B1-BA61-A2E8189776A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59B1F-0C6C-47F9-BFD4-2DA863212A5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F8111-E0FF-4584-A042-D27821AB8F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D7A7E-08B1-4583-91B0-32D1F73D8D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79BC8-66F5-4608-83E2-8747193DD4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BA1D4-2A8F-41DD-B2AA-2713D7382B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F5CD9-758C-4CF1-A202-5DA7CC00A6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6B89-7274-4611-ABEA-E638ED2B74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BC48F-8E6A-4E14-A2A7-5CC5A88C29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FDBAD-9097-4DD3-892B-32497AB7DA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147A6-0F83-4F86-A0DF-B6075B03B5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4215E-53D4-49D0-BBC9-CCA0F98F05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6DFF9-81C6-4821-9068-B087281292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D3B8A-960F-4156-9EDB-661E07977D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D14C3-144D-47BC-8468-1428CD59AF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5332E-3D0E-4541-8F48-C5F112AFE3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94581-8D48-4A2A-9CB6-FD61399BA5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DB3CD-EF39-4766-8E8A-FB72018F2B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DB7DD-3FF8-46EC-AE3D-ACC2B2716A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48B23-19AA-4D2F-8CD9-B94FA2167C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8B0A0-D6F1-4035-8548-DF27B5EA37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A1065-C968-438C-B771-EFF37B33B3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B6EFB-431B-4CA4-B6AE-C325AE1A43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1CCDA-B81A-4366-AD89-428EFA6B4C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A668F-5DFC-452A-A821-7A7F1D2638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38926-8B30-4E69-B17C-E2771BE86DD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06C16-929C-4357-9C80-2A82EA2197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D4D16-F9DA-45B9-957E-638D522FFC8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45E83-5A77-47AC-AA4B-2130E6D605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569B5-D82C-4FE3-977B-EDF50154D1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A8EAB-3CB8-4500-94EF-A1FB094993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4F9C6-53DF-4D6F-9A74-431D1C4A11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24099-2C6D-476E-A554-183912F85D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34020-67C3-4E02-91FC-7E6F86107E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A3782-0F14-4D28-84C8-BBCBC7B5A1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D6BAC-7DF6-4C06-897A-66F149EA32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8E58E-9BF6-4E8C-9D1B-01E9D42A5F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CBC02-FF90-4658-89F5-CC45676A50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E0532-C248-4DAA-8E4B-254CD29CFF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F92F2-079F-459E-9ED7-90B14841AB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28680" descr=""/>
          <p:cNvPicPr/>
          <p:nvPr/>
        </p:nvPicPr>
        <p:blipFill>
          <a:blip r:embed="rId1"/>
          <a:stretch/>
        </p:blipFill>
        <p:spPr>
          <a:xfrm>
            <a:off x="2452680" y="2986200"/>
            <a:ext cx="4238640" cy="8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图片 79873" descr=""/>
          <p:cNvPicPr/>
          <p:nvPr/>
        </p:nvPicPr>
        <p:blipFill>
          <a:blip r:embed="rId1"/>
          <a:stretch/>
        </p:blipFill>
        <p:spPr>
          <a:xfrm>
            <a:off x="771480" y="1900080"/>
            <a:ext cx="7601040" cy="3057840"/>
          </a:xfrm>
          <a:prstGeom prst="rect">
            <a:avLst/>
          </a:prstGeom>
          <a:ln w="0">
            <a:noFill/>
          </a:ln>
        </p:spPr>
      </p:pic>
      <p:sp>
        <p:nvSpPr>
          <p:cNvPr id="1059" name="矩形 79874"/>
          <p:cNvSpPr/>
          <p:nvPr/>
        </p:nvSpPr>
        <p:spPr>
          <a:xfrm>
            <a:off x="7596360" y="2421000"/>
            <a:ext cx="431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0" name="图片 78849" descr=""/>
          <p:cNvPicPr/>
          <p:nvPr/>
        </p:nvPicPr>
        <p:blipFill>
          <a:blip r:embed="rId1"/>
          <a:stretch/>
        </p:blipFill>
        <p:spPr>
          <a:xfrm>
            <a:off x="533520" y="1604880"/>
            <a:ext cx="8076960" cy="3648240"/>
          </a:xfrm>
          <a:prstGeom prst="rect">
            <a:avLst/>
          </a:prstGeom>
          <a:ln w="0">
            <a:noFill/>
          </a:ln>
        </p:spPr>
      </p:pic>
      <p:sp>
        <p:nvSpPr>
          <p:cNvPr id="1061" name="矩形 78850"/>
          <p:cNvSpPr/>
          <p:nvPr/>
        </p:nvSpPr>
        <p:spPr>
          <a:xfrm>
            <a:off x="7812000" y="3645000"/>
            <a:ext cx="432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2" name="图片 77825" descr=""/>
          <p:cNvPicPr/>
          <p:nvPr/>
        </p:nvPicPr>
        <p:blipFill>
          <a:blip r:embed="rId1"/>
          <a:stretch/>
        </p:blipFill>
        <p:spPr>
          <a:xfrm>
            <a:off x="533520" y="1962000"/>
            <a:ext cx="8076960" cy="2934000"/>
          </a:xfrm>
          <a:prstGeom prst="rect">
            <a:avLst/>
          </a:prstGeom>
          <a:ln w="0">
            <a:noFill/>
          </a:ln>
        </p:spPr>
      </p:pic>
      <p:sp>
        <p:nvSpPr>
          <p:cNvPr id="1063" name="矩形 77826"/>
          <p:cNvSpPr/>
          <p:nvPr/>
        </p:nvSpPr>
        <p:spPr>
          <a:xfrm>
            <a:off x="5483160" y="2449440"/>
            <a:ext cx="8035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矩形 77827"/>
          <p:cNvSpPr/>
          <p:nvPr/>
        </p:nvSpPr>
        <p:spPr>
          <a:xfrm>
            <a:off x="4859280" y="3500280"/>
            <a:ext cx="8031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5" name="图片 76801" descr=""/>
          <p:cNvPicPr/>
          <p:nvPr/>
        </p:nvPicPr>
        <p:blipFill>
          <a:blip r:embed="rId1"/>
          <a:stretch/>
        </p:blipFill>
        <p:spPr>
          <a:xfrm>
            <a:off x="500040" y="1581120"/>
            <a:ext cx="8143920" cy="3695760"/>
          </a:xfrm>
          <a:prstGeom prst="rect">
            <a:avLst/>
          </a:prstGeom>
          <a:ln w="0">
            <a:noFill/>
          </a:ln>
        </p:spPr>
      </p:pic>
      <p:sp>
        <p:nvSpPr>
          <p:cNvPr id="1066" name="矩形 76802"/>
          <p:cNvSpPr/>
          <p:nvPr/>
        </p:nvSpPr>
        <p:spPr>
          <a:xfrm>
            <a:off x="2268360" y="2631960"/>
            <a:ext cx="1079640" cy="365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矩形 76803"/>
          <p:cNvSpPr/>
          <p:nvPr/>
        </p:nvSpPr>
        <p:spPr>
          <a:xfrm>
            <a:off x="6877080" y="2637000"/>
            <a:ext cx="107964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矩形 76804"/>
          <p:cNvSpPr/>
          <p:nvPr/>
        </p:nvSpPr>
        <p:spPr>
          <a:xfrm>
            <a:off x="3059280" y="3645000"/>
            <a:ext cx="107928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9" name="图片 89089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8200800" cy="5600880"/>
          </a:xfrm>
          <a:prstGeom prst="rect">
            <a:avLst/>
          </a:prstGeom>
          <a:ln w="0">
            <a:noFill/>
          </a:ln>
        </p:spPr>
      </p:pic>
      <p:sp>
        <p:nvSpPr>
          <p:cNvPr id="1070" name="矩形 89090"/>
          <p:cNvSpPr/>
          <p:nvPr/>
        </p:nvSpPr>
        <p:spPr>
          <a:xfrm>
            <a:off x="7236000" y="3846600"/>
            <a:ext cx="974520" cy="38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矩形 89091"/>
          <p:cNvSpPr/>
          <p:nvPr/>
        </p:nvSpPr>
        <p:spPr>
          <a:xfrm>
            <a:off x="7093080" y="4869000"/>
            <a:ext cx="974520" cy="38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矩形 89092"/>
          <p:cNvSpPr/>
          <p:nvPr/>
        </p:nvSpPr>
        <p:spPr>
          <a:xfrm>
            <a:off x="1332000" y="5877000"/>
            <a:ext cx="974520" cy="38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1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1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图片 90113" descr=""/>
          <p:cNvPicPr/>
          <p:nvPr/>
        </p:nvPicPr>
        <p:blipFill>
          <a:blip r:embed="rId1"/>
          <a:stretch/>
        </p:blipFill>
        <p:spPr>
          <a:xfrm>
            <a:off x="509760" y="1409760"/>
            <a:ext cx="8124480" cy="4038480"/>
          </a:xfrm>
          <a:prstGeom prst="rect">
            <a:avLst/>
          </a:prstGeom>
          <a:ln w="0">
            <a:noFill/>
          </a:ln>
        </p:spPr>
      </p:pic>
      <p:sp>
        <p:nvSpPr>
          <p:cNvPr id="1074" name="矩形 90114"/>
          <p:cNvSpPr/>
          <p:nvPr/>
        </p:nvSpPr>
        <p:spPr>
          <a:xfrm>
            <a:off x="1042920" y="2971800"/>
            <a:ext cx="7556400" cy="38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矩形 90115"/>
          <p:cNvSpPr/>
          <p:nvPr/>
        </p:nvSpPr>
        <p:spPr>
          <a:xfrm>
            <a:off x="1042920" y="3500280"/>
            <a:ext cx="7556400" cy="384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矩形 90116"/>
          <p:cNvSpPr/>
          <p:nvPr/>
        </p:nvSpPr>
        <p:spPr>
          <a:xfrm>
            <a:off x="1042920" y="4005360"/>
            <a:ext cx="7556400" cy="38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矩形 90117"/>
          <p:cNvSpPr/>
          <p:nvPr/>
        </p:nvSpPr>
        <p:spPr>
          <a:xfrm>
            <a:off x="1042920" y="4508640"/>
            <a:ext cx="7556400" cy="38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矩形 90118"/>
          <p:cNvSpPr/>
          <p:nvPr/>
        </p:nvSpPr>
        <p:spPr>
          <a:xfrm>
            <a:off x="900000" y="5013360"/>
            <a:ext cx="3384720" cy="38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1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1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1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1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9" name="图片 91137" descr=""/>
          <p:cNvPicPr/>
          <p:nvPr/>
        </p:nvPicPr>
        <p:blipFill>
          <a:blip r:embed="rId1"/>
          <a:stretch/>
        </p:blipFill>
        <p:spPr>
          <a:xfrm>
            <a:off x="485640" y="1328760"/>
            <a:ext cx="8172720" cy="4200480"/>
          </a:xfrm>
          <a:prstGeom prst="rect">
            <a:avLst/>
          </a:prstGeom>
          <a:ln w="0">
            <a:noFill/>
          </a:ln>
        </p:spPr>
      </p:pic>
      <p:sp>
        <p:nvSpPr>
          <p:cNvPr id="1080" name="矩形 91138"/>
          <p:cNvSpPr/>
          <p:nvPr/>
        </p:nvSpPr>
        <p:spPr>
          <a:xfrm>
            <a:off x="7740720" y="4076640"/>
            <a:ext cx="431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7" dur="1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1" name="图片 92161" descr=""/>
          <p:cNvPicPr/>
          <p:nvPr/>
        </p:nvPicPr>
        <p:blipFill>
          <a:blip r:embed="rId1"/>
          <a:stretch/>
        </p:blipFill>
        <p:spPr>
          <a:xfrm>
            <a:off x="676440" y="1886040"/>
            <a:ext cx="779112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88065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2952720" cy="799920"/>
          </a:xfrm>
          <a:prstGeom prst="rect">
            <a:avLst/>
          </a:prstGeom>
          <a:ln w="0">
            <a:noFill/>
          </a:ln>
        </p:spPr>
      </p:pic>
      <p:pic>
        <p:nvPicPr>
          <p:cNvPr id="1024" name="图片 88066" descr=""/>
          <p:cNvPicPr/>
          <p:nvPr/>
        </p:nvPicPr>
        <p:blipFill>
          <a:blip r:embed="rId2"/>
          <a:stretch/>
        </p:blipFill>
        <p:spPr>
          <a:xfrm>
            <a:off x="324000" y="2319480"/>
            <a:ext cx="8496000" cy="2219040"/>
          </a:xfrm>
          <a:prstGeom prst="rect">
            <a:avLst/>
          </a:prstGeom>
          <a:ln w="0">
            <a:noFill/>
          </a:ln>
        </p:spPr>
      </p:pic>
      <p:sp>
        <p:nvSpPr>
          <p:cNvPr id="1025" name="矩形 88067"/>
          <p:cNvSpPr/>
          <p:nvPr/>
        </p:nvSpPr>
        <p:spPr>
          <a:xfrm>
            <a:off x="1619280" y="2349360"/>
            <a:ext cx="333360" cy="26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88068"/>
          <p:cNvSpPr/>
          <p:nvPr/>
        </p:nvSpPr>
        <p:spPr>
          <a:xfrm>
            <a:off x="3583080" y="2324160"/>
            <a:ext cx="333360" cy="260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88069"/>
          <p:cNvSpPr/>
          <p:nvPr/>
        </p:nvSpPr>
        <p:spPr>
          <a:xfrm>
            <a:off x="7380360" y="2324160"/>
            <a:ext cx="333360" cy="260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88070"/>
          <p:cNvSpPr/>
          <p:nvPr/>
        </p:nvSpPr>
        <p:spPr>
          <a:xfrm>
            <a:off x="1403280" y="2708280"/>
            <a:ext cx="333360" cy="260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88071"/>
          <p:cNvSpPr/>
          <p:nvPr/>
        </p:nvSpPr>
        <p:spPr>
          <a:xfrm>
            <a:off x="2584440" y="3068640"/>
            <a:ext cx="333360" cy="260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矩形 88072"/>
          <p:cNvSpPr/>
          <p:nvPr/>
        </p:nvSpPr>
        <p:spPr>
          <a:xfrm>
            <a:off x="5003640" y="3068640"/>
            <a:ext cx="333360" cy="260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矩形 88073"/>
          <p:cNvSpPr/>
          <p:nvPr/>
        </p:nvSpPr>
        <p:spPr>
          <a:xfrm>
            <a:off x="3635280" y="3462480"/>
            <a:ext cx="1584360" cy="260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矩形 88074"/>
          <p:cNvSpPr/>
          <p:nvPr/>
        </p:nvSpPr>
        <p:spPr>
          <a:xfrm>
            <a:off x="7740720" y="3448080"/>
            <a:ext cx="714240" cy="260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88075"/>
          <p:cNvSpPr/>
          <p:nvPr/>
        </p:nvSpPr>
        <p:spPr>
          <a:xfrm>
            <a:off x="3924360" y="3841920"/>
            <a:ext cx="762120" cy="260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88076"/>
          <p:cNvSpPr/>
          <p:nvPr/>
        </p:nvSpPr>
        <p:spPr>
          <a:xfrm>
            <a:off x="6443640" y="3827520"/>
            <a:ext cx="628560" cy="260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图片 87041" descr=""/>
          <p:cNvPicPr/>
          <p:nvPr/>
        </p:nvPicPr>
        <p:blipFill>
          <a:blip r:embed="rId1"/>
          <a:stretch/>
        </p:blipFill>
        <p:spPr>
          <a:xfrm>
            <a:off x="324000" y="1366920"/>
            <a:ext cx="8496000" cy="4124160"/>
          </a:xfrm>
          <a:prstGeom prst="rect">
            <a:avLst/>
          </a:prstGeom>
          <a:ln w="0">
            <a:noFill/>
          </a:ln>
        </p:spPr>
      </p:pic>
      <p:sp>
        <p:nvSpPr>
          <p:cNvPr id="1036" name="矩形 87042"/>
          <p:cNvSpPr/>
          <p:nvPr/>
        </p:nvSpPr>
        <p:spPr>
          <a:xfrm>
            <a:off x="6021360" y="3338640"/>
            <a:ext cx="333360" cy="260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矩形 87043"/>
          <p:cNvSpPr/>
          <p:nvPr/>
        </p:nvSpPr>
        <p:spPr>
          <a:xfrm>
            <a:off x="8172360" y="4869000"/>
            <a:ext cx="333360" cy="260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图片 86017" descr=""/>
          <p:cNvPicPr/>
          <p:nvPr/>
        </p:nvPicPr>
        <p:blipFill>
          <a:blip r:embed="rId1"/>
          <a:stretch/>
        </p:blipFill>
        <p:spPr>
          <a:xfrm>
            <a:off x="333360" y="1143000"/>
            <a:ext cx="8477280" cy="4572000"/>
          </a:xfrm>
          <a:prstGeom prst="rect">
            <a:avLst/>
          </a:prstGeom>
          <a:ln w="0">
            <a:noFill/>
          </a:ln>
        </p:spPr>
      </p:pic>
      <p:sp>
        <p:nvSpPr>
          <p:cNvPr id="1039" name="矩形 86018"/>
          <p:cNvSpPr/>
          <p:nvPr/>
        </p:nvSpPr>
        <p:spPr>
          <a:xfrm>
            <a:off x="7740720" y="1604880"/>
            <a:ext cx="333360" cy="260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矩形 86019"/>
          <p:cNvSpPr/>
          <p:nvPr/>
        </p:nvSpPr>
        <p:spPr>
          <a:xfrm>
            <a:off x="3409920" y="1989000"/>
            <a:ext cx="561960" cy="26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矩形 86020"/>
          <p:cNvSpPr/>
          <p:nvPr/>
        </p:nvSpPr>
        <p:spPr>
          <a:xfrm>
            <a:off x="7524720" y="1989000"/>
            <a:ext cx="333360" cy="26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86021"/>
          <p:cNvSpPr/>
          <p:nvPr/>
        </p:nvSpPr>
        <p:spPr>
          <a:xfrm>
            <a:off x="5219640" y="3860640"/>
            <a:ext cx="647640" cy="26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矩形 86022"/>
          <p:cNvSpPr/>
          <p:nvPr/>
        </p:nvSpPr>
        <p:spPr>
          <a:xfrm>
            <a:off x="1619280" y="4221000"/>
            <a:ext cx="333360" cy="26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86023"/>
          <p:cNvSpPr/>
          <p:nvPr/>
        </p:nvSpPr>
        <p:spPr>
          <a:xfrm>
            <a:off x="2124000" y="5373720"/>
            <a:ext cx="333360" cy="260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86024"/>
          <p:cNvSpPr/>
          <p:nvPr/>
        </p:nvSpPr>
        <p:spPr>
          <a:xfrm>
            <a:off x="5435640" y="5338800"/>
            <a:ext cx="431640" cy="260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图片 84993" descr=""/>
          <p:cNvPicPr/>
          <p:nvPr/>
        </p:nvPicPr>
        <p:blipFill>
          <a:blip r:embed="rId1"/>
          <a:stretch/>
        </p:blipFill>
        <p:spPr>
          <a:xfrm>
            <a:off x="299880" y="1333440"/>
            <a:ext cx="8544240" cy="4191120"/>
          </a:xfrm>
          <a:prstGeom prst="rect">
            <a:avLst/>
          </a:prstGeom>
          <a:ln w="0">
            <a:noFill/>
          </a:ln>
        </p:spPr>
      </p:pic>
      <p:sp>
        <p:nvSpPr>
          <p:cNvPr id="1047" name="矩形 84994"/>
          <p:cNvSpPr/>
          <p:nvPr/>
        </p:nvSpPr>
        <p:spPr>
          <a:xfrm>
            <a:off x="2627280" y="2928960"/>
            <a:ext cx="590760" cy="260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矩形 84995"/>
          <p:cNvSpPr/>
          <p:nvPr/>
        </p:nvSpPr>
        <p:spPr>
          <a:xfrm>
            <a:off x="826920" y="4048200"/>
            <a:ext cx="590760" cy="260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84996"/>
          <p:cNvSpPr/>
          <p:nvPr/>
        </p:nvSpPr>
        <p:spPr>
          <a:xfrm>
            <a:off x="3338640" y="4048200"/>
            <a:ext cx="590400" cy="260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矩形 84997"/>
          <p:cNvSpPr/>
          <p:nvPr/>
        </p:nvSpPr>
        <p:spPr>
          <a:xfrm>
            <a:off x="1619280" y="5157720"/>
            <a:ext cx="590400" cy="260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图片 83969" descr=""/>
          <p:cNvPicPr/>
          <p:nvPr/>
        </p:nvPicPr>
        <p:blipFill>
          <a:blip r:embed="rId1"/>
          <a:stretch/>
        </p:blipFill>
        <p:spPr>
          <a:xfrm>
            <a:off x="542880" y="1076400"/>
            <a:ext cx="8058240" cy="4705200"/>
          </a:xfrm>
          <a:prstGeom prst="rect">
            <a:avLst/>
          </a:prstGeom>
          <a:ln w="0">
            <a:noFill/>
          </a:ln>
        </p:spPr>
      </p:pic>
      <p:sp>
        <p:nvSpPr>
          <p:cNvPr id="1052" name="矩形 83970"/>
          <p:cNvSpPr/>
          <p:nvPr/>
        </p:nvSpPr>
        <p:spPr>
          <a:xfrm>
            <a:off x="7812000" y="4797360"/>
            <a:ext cx="432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3" name="图片 82945" descr=""/>
          <p:cNvPicPr/>
          <p:nvPr/>
        </p:nvPicPr>
        <p:blipFill>
          <a:blip r:embed="rId1"/>
          <a:stretch/>
        </p:blipFill>
        <p:spPr>
          <a:xfrm>
            <a:off x="495360" y="1133640"/>
            <a:ext cx="8153280" cy="4590720"/>
          </a:xfrm>
          <a:prstGeom prst="rect">
            <a:avLst/>
          </a:prstGeom>
          <a:ln w="0">
            <a:noFill/>
          </a:ln>
        </p:spPr>
      </p:pic>
      <p:sp>
        <p:nvSpPr>
          <p:cNvPr id="1054" name="矩形 82946"/>
          <p:cNvSpPr/>
          <p:nvPr/>
        </p:nvSpPr>
        <p:spPr>
          <a:xfrm>
            <a:off x="5003640" y="3213000"/>
            <a:ext cx="432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5" name="图片 81921" descr=""/>
          <p:cNvPicPr/>
          <p:nvPr/>
        </p:nvPicPr>
        <p:blipFill>
          <a:blip r:embed="rId1"/>
          <a:stretch/>
        </p:blipFill>
        <p:spPr>
          <a:xfrm>
            <a:off x="519120" y="1119240"/>
            <a:ext cx="8105760" cy="4619520"/>
          </a:xfrm>
          <a:prstGeom prst="rect">
            <a:avLst/>
          </a:prstGeom>
          <a:ln w="0">
            <a:noFill/>
          </a:ln>
        </p:spPr>
      </p:pic>
      <p:sp>
        <p:nvSpPr>
          <p:cNvPr id="1056" name="矩形 81922"/>
          <p:cNvSpPr/>
          <p:nvPr/>
        </p:nvSpPr>
        <p:spPr>
          <a:xfrm>
            <a:off x="7812000" y="3213000"/>
            <a:ext cx="432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7" name="图片 80897" descr=""/>
          <p:cNvPicPr/>
          <p:nvPr/>
        </p:nvPicPr>
        <p:blipFill>
          <a:blip r:embed="rId1"/>
          <a:stretch/>
        </p:blipFill>
        <p:spPr>
          <a:xfrm>
            <a:off x="500040" y="1890720"/>
            <a:ext cx="814392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14T01:41:33Z</dcterms:modified>
  <cp:revision>2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